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47EAD-7570-4BB2-A9D8-5EBDBEB2DDB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9C9D7-4A20-41F3-9E67-284A96D406E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208B9-9894-4450-8D98-8C8E1D2A2A6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74843-4D22-4539-BB3A-CD5782EA8FC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8B485-2948-4DC8-AAD1-7C29E93A885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90789-07B2-4750-8972-771869E59BB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82988-59DE-4B43-A5CE-6CF33253C83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26D8F-C6F7-459F-8941-B99D13CE3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01BEE-4F88-4509-B179-E0EFAD623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EA55C-5993-44E6-B0AF-0D63B65DF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18304-89FA-415B-B9FE-7A9275298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32B64-B183-40F6-9151-B09C07E50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73D15-1267-4677-A727-B94CA78C4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005E3-1DCD-45CC-B590-EB91A22E1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DF750-0BED-4721-9C31-0B9B27561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8DC39-ACC1-4D59-84C2-3AFBE67EB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BAE05-A092-4ECF-97DB-4D2771F4B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4939C-1450-4CDF-8255-4A53795E5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0D207-212E-40C5-9005-C97CAB141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18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F6F17-7F5F-4D72-A400-EDB04E495C1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4"/>
          <p:cNvSpPr/>
          <p:nvPr/>
        </p:nvSpPr>
        <p:spPr>
          <a:xfrm>
            <a:off x="611280" y="692280"/>
            <a:ext cx="7921440" cy="5545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05510"/>
              </a:gs>
              <a:gs pos="100000">
                <a:srgbClr val="6f2707"/>
              </a:gs>
            </a:gsLst>
            <a:lin ang="2700000"/>
          </a:gradFill>
          <a:ln w="0">
            <a:noFill/>
          </a:ln>
          <a:effectLst>
            <a:outerShdw dist="17819" dir="2700000" blurRad="0" rotWithShape="0">
              <a:srgbClr val="90330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1332000" y="1125360"/>
            <a:ext cx="6767280" cy="3324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omic Sans MS"/>
              </a:rPr>
              <a:t>Основополагающий</a:t>
            </a: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Comic Sans MS"/>
              </a:rPr>
              <a:t>вопрос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Что такое характер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9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AutoShape 2"/>
          <p:cNvSpPr/>
          <p:nvPr/>
        </p:nvSpPr>
        <p:spPr>
          <a:xfrm>
            <a:off x="611280" y="692280"/>
            <a:ext cx="7921440" cy="5545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05510"/>
              </a:gs>
              <a:gs pos="100000">
                <a:srgbClr val="6f2707"/>
              </a:gs>
            </a:gsLst>
            <a:lin ang="2700000"/>
          </a:gradFill>
          <a:ln w="0">
            <a:noFill/>
          </a:ln>
          <a:effectLst>
            <a:outerShdw dist="17819" dir="2700000" blurRad="0" rotWithShape="0">
              <a:srgbClr val="90330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3"/>
          <p:cNvSpPr/>
          <p:nvPr/>
        </p:nvSpPr>
        <p:spPr>
          <a:xfrm>
            <a:off x="1332000" y="1125360"/>
            <a:ext cx="6767280" cy="283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Проблемные вопросы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Что такое стереотипы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Каким образом люди формируют представление о народах других стран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AutoShape 2"/>
          <p:cNvSpPr/>
          <p:nvPr/>
        </p:nvSpPr>
        <p:spPr>
          <a:xfrm>
            <a:off x="611280" y="692280"/>
            <a:ext cx="7921440" cy="5545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05510"/>
              </a:gs>
              <a:gs pos="100000">
                <a:srgbClr val="6f2707"/>
              </a:gs>
            </a:gsLst>
            <a:lin ang="2700000"/>
          </a:gradFill>
          <a:ln w="0">
            <a:noFill/>
          </a:ln>
          <a:effectLst>
            <a:outerShdw dist="17819" dir="2700000" blurRad="0" rotWithShape="0">
              <a:srgbClr val="90330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1332000" y="907920"/>
            <a:ext cx="6767280" cy="6129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Учебные вопросы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Каков менталитет англичан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Какие стереотипы окружают англичан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Чем Англичане отличаются от Американцев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Каков вклад Англии в современную и мировую культуру в целом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AutoShape 2"/>
          <p:cNvSpPr/>
          <p:nvPr/>
        </p:nvSpPr>
        <p:spPr>
          <a:xfrm>
            <a:off x="611280" y="692280"/>
            <a:ext cx="7921440" cy="5545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05510"/>
              </a:gs>
              <a:gs pos="100000">
                <a:srgbClr val="6f2707"/>
              </a:gs>
            </a:gsLst>
            <a:lin ang="2700000"/>
          </a:gradFill>
          <a:ln w="0">
            <a:noFill/>
          </a:ln>
          <a:effectLst>
            <a:outerShdw dist="17819" dir="2700000" blurRad="0" rotWithShape="0">
              <a:srgbClr val="90330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3"/>
          <p:cNvSpPr/>
          <p:nvPr/>
        </p:nvSpPr>
        <p:spPr>
          <a:xfrm>
            <a:off x="1332000" y="1125360"/>
            <a:ext cx="6767280" cy="4483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Цель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Расширение кругозора путём изучения культуры и национального характера изучаемой страны, получить правильное представление о людях живущих в не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8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AutoShape 2"/>
          <p:cNvSpPr/>
          <p:nvPr/>
        </p:nvSpPr>
        <p:spPr>
          <a:xfrm>
            <a:off x="611280" y="692280"/>
            <a:ext cx="7921440" cy="5545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05510"/>
              </a:gs>
              <a:gs pos="100000">
                <a:srgbClr val="6f2707"/>
              </a:gs>
            </a:gsLst>
            <a:lin ang="2700000"/>
          </a:gradFill>
          <a:ln w="0">
            <a:noFill/>
          </a:ln>
          <a:effectLst>
            <a:outerShdw dist="17819" dir="2700000" blurRad="0" rotWithShape="0">
              <a:srgbClr val="90330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3"/>
          <p:cNvSpPr/>
          <p:nvPr/>
        </p:nvSpPr>
        <p:spPr>
          <a:xfrm>
            <a:off x="1332000" y="1125360"/>
            <a:ext cx="676728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Длительность курса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бщая длительность курса шесть часов, в течении трёх недель, по два часа в недел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4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AutoShape 2"/>
          <p:cNvSpPr/>
          <p:nvPr/>
        </p:nvSpPr>
        <p:spPr>
          <a:xfrm>
            <a:off x="611280" y="692280"/>
            <a:ext cx="7921440" cy="5545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05510"/>
              </a:gs>
              <a:gs pos="100000">
                <a:srgbClr val="6f2707"/>
              </a:gs>
            </a:gsLst>
            <a:lin ang="2700000"/>
          </a:gradFill>
          <a:ln w="0">
            <a:noFill/>
          </a:ln>
          <a:effectLst>
            <a:outerShdw dist="17819" dir="2700000" blurRad="0" rotWithShape="0">
              <a:srgbClr val="90330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1258920" y="3141720"/>
            <a:ext cx="67676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Желаем успехов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0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" nodeType="after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0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2T17:00:35Z</dcterms:created>
  <dc:creator>FuckYouBill</dc:creator>
  <dc:description/>
  <dc:language>en-US</dc:language>
  <cp:lastModifiedBy>FuckYouBill</cp:lastModifiedBy>
  <dcterms:modified xsi:type="dcterms:W3CDTF">2009-12-03T21:49:47Z</dcterms:modified>
  <cp:revision>5</cp:revision>
  <dc:subject/>
  <dc:title>Слайд 1</dc:title>
</cp:coreProperties>
</file>